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ACA0B-1ED0-443B-A7A8-486D66F22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51684-A09A-4353-BBAD-21C0D36BE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840D1-029D-4EDA-A42F-A9C6A3908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9D466-C700-4F59-9A22-E131D2ACB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254B8-BD02-4674-8233-A7E9D09B3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C6C5A-752F-4F65-96C0-8B86C96A7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AB9CA-93C0-42AA-AC1F-49892635D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A7E4B-EE0C-4100-B9D3-98D4D1482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EC07A-F7EB-466D-A17F-34B418ACF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14C0F-12FD-44C3-916A-8E4144A23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5F25D-95C3-48B7-8A34-73BAB42D0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9998-51A4-442F-AECE-C5408B6EB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A0C3-00BE-4DB9-B9A7-A17B08D42EB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E711-A2DD-4D2B-B9DF-7D93C394E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12. TL sin myndighet til å anvende skjøn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09A30399-B12F-4B1A-BCDF-D0752E3B9121}" type="slidenum">
              <a:t>1</a:t>
            </a:fld>
          </a:p>
        </p:txBody>
      </p:sp>
      <p:sp>
        <p:nvSpPr>
          <p:cNvPr id="6" name="PlaceHolder 5"/>
          <p:cNvSpPr>
            <a:spLocks noGrp="1"/>
          </p:cNvSpPr>
          <p:nvPr>
            <p:ph type="dt" idx="1"/>
          </p:nvPr>
        </p:nvSpPr>
        <p:spPr/>
        <p:txBody>
          <a:bodyPr/>
          <a:p>
            <a:fld id="{E72A36B4-93AE-453B-85CA-97C984F62118}"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I</a:t>
            </a:r>
            <a:endParaRPr b="0" lang="en-US" sz="3600" spc="-1" strike="noStrike">
              <a:solidFill>
                <a:srgbClr val="000066"/>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Urettmessig informasjon fra andre kilder enn makk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resultatet fra nabobord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detaljer om f.eks sparsaksa</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avgjør om informasjonen gjør det umulig å spille spillet på vanlig måte.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L skal enten kreve at spillet fullføres uten justeringer for informasjonen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eller fastsette poeng direkte</a:t>
            </a:r>
            <a:endParaRPr b="0" lang="en-US" sz="1800" spc="-1" strike="noStrike">
              <a:solidFill>
                <a:srgbClr val="000066"/>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nekter spillerne å spille spillet</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Når TL nekter noen å starte et spill i en parturnering gjelder følgend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ommet for sent til bord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rangl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 –</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Motparten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kyldspørsmålet er tvilsomt</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Sent spill av et eller begge par</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Begge par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helt u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a:t>
            </a:r>
            <a:endParaRPr b="0" lang="en-US" sz="1200" spc="-1" strike="noStrike">
              <a:solidFill>
                <a:srgbClr val="000066"/>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23F2F21D-0019-48E7-8F65-651154D7DE7F}" type="slidenum">
              <a:t>10</a:t>
            </a:fld>
          </a:p>
        </p:txBody>
      </p:sp>
      <p:sp>
        <p:nvSpPr>
          <p:cNvPr id="7" name="PlaceHolder 6"/>
          <p:cNvSpPr>
            <a:spLocks noGrp="1"/>
          </p:cNvSpPr>
          <p:nvPr>
            <p:ph type="dt" idx="1"/>
          </p:nvPr>
        </p:nvSpPr>
        <p:spPr/>
        <p:txBody>
          <a:bodyPr/>
          <a:p>
            <a:fld id="{CF2D2B2D-218A-4E06-828E-2548473E004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V</a:t>
            </a:r>
            <a:endParaRPr b="0" lang="en-US" sz="3600" spc="-1" strike="noStrike">
              <a:solidFill>
                <a:srgbClr val="000066"/>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TL har dømt feil § 82C</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vis turneringslederen har truffet en avgjørelse, som han selv eller en eventuell hovedturneringsleder** senere finner ukorrekt,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g ingen form for korrigering vil gjøre det mulig å regne ut poengene for mappen på normal måt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skal TL fastsette poeng direkte, og i så henseende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betrakte begge sider som ikke-feilende.</a:t>
            </a:r>
            <a:endParaRPr b="0" lang="en-US" sz="1400" spc="-1" strike="noStrike">
              <a:solidFill>
                <a:srgbClr val="99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rk at poeng skal fastsettes direkte etter 12 C1 bare når spillet ikke kan scores på annen måte.</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e om 12C2 eller 12C3 kan brukes før dere velger 12C1</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u bør ikke gi mer enn 100 %  til sammen på spillet hvis ikke alle spillerne er uten skyld</a:t>
            </a: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F4A7E0B5-022D-43EE-8CA0-AE5D96B8558B}" type="slidenum">
              <a:t>11</a:t>
            </a:fld>
          </a:p>
        </p:txBody>
      </p:sp>
      <p:sp>
        <p:nvSpPr>
          <p:cNvPr id="7" name="PlaceHolder 6"/>
          <p:cNvSpPr>
            <a:spLocks noGrp="1"/>
          </p:cNvSpPr>
          <p:nvPr>
            <p:ph type="dt" idx="1"/>
          </p:nvPr>
        </p:nvSpPr>
        <p:spPr/>
        <p:txBody>
          <a:bodyPr/>
          <a:p>
            <a:fld id="{5820D2C8-2BD2-430E-A69A-2BE9B3D5ABC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a:t>
            </a:r>
            <a:endParaRPr b="0" lang="en-US" sz="3600" spc="-1" strike="noStrike">
              <a:solidFill>
                <a:srgbClr val="000066"/>
              </a:solidFill>
              <a:latin typeface="Times New Roman"/>
            </a:endParaRPr>
          </a:p>
        </p:txBody>
      </p:sp>
      <p:sp>
        <p:nvSpPr>
          <p:cNvPr id="71"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For den ikke feilende side</a:t>
            </a:r>
            <a:endParaRPr b="0" lang="en-US" sz="32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 har ingen garantiscore og de kan ikke få f.eks GJ+ dersom de uten uregelmessigheten ville ha fått en dårligere score.</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 etter uregelmessigheten gjør noe som er irrasjonet vilt eller sjansepreget så får de ikke erstatning for den skaden som de nå påfører seg selv </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jansepreget Dobl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Melde en håpløs kontrakt</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ærdeles kreativt (sjansepreget motspill)</a:t>
            </a:r>
            <a:endParaRPr b="0" lang="en-US" sz="14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t er vanskelig å henge bjella på katten med bare et resultat så er det greit å gå til 12 C3</a:t>
            </a:r>
            <a:endParaRPr b="0" lang="en-US" sz="1600" spc="-1" strike="noStrike">
              <a:solidFill>
                <a:srgbClr val="99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EB2E37E4-C188-499D-B022-C46C25B7B858}" type="slidenum">
              <a:t>12</a:t>
            </a:fld>
          </a:p>
        </p:txBody>
      </p:sp>
      <p:sp>
        <p:nvSpPr>
          <p:cNvPr id="6" name="PlaceHolder 5"/>
          <p:cNvSpPr>
            <a:spLocks noGrp="1"/>
          </p:cNvSpPr>
          <p:nvPr>
            <p:ph type="dt" idx="1"/>
          </p:nvPr>
        </p:nvSpPr>
        <p:spPr/>
        <p:txBody>
          <a:bodyPr/>
          <a:p>
            <a:fld id="{ADB24B3B-73B3-45BF-8F84-6C87A7FB98A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a:t>
            </a:r>
            <a:endParaRPr b="0" lang="en-US" sz="36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Den feilende si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66"/>
                </a:solidFill>
                <a:latin typeface="Times New Roman"/>
              </a:rPr>
              <a:t>- og for den feilende side den mest ugunstige score som i det hele tatt ville være sannsynlig.</a:t>
            </a:r>
            <a:r>
              <a:rPr b="0" lang="nb-NO" sz="2400" spc="-1" strike="noStrike">
                <a:solidFill>
                  <a:srgbClr val="000066"/>
                </a:solidFill>
                <a:latin typeface="Times New Roman"/>
              </a:rPr>
              <a:t>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uregelmessigheten ikke hadde skjedd</a:t>
            </a:r>
            <a:endParaRPr b="0" lang="en-US" sz="20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egg fra WBF Code of practise:” should be awarded the score that it would have been allotted as the normal consequense of its infraction”</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motparten hadde gjort ting riktig etter uregelmessighet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0016A181-9B6B-418B-9AA2-ACD4E6329A5E}" type="slidenum">
              <a:t>13</a:t>
            </a:fld>
          </a:p>
        </p:txBody>
      </p:sp>
      <p:sp>
        <p:nvSpPr>
          <p:cNvPr id="6" name="PlaceHolder 5"/>
          <p:cNvSpPr>
            <a:spLocks noGrp="1"/>
          </p:cNvSpPr>
          <p:nvPr>
            <p:ph type="dt" idx="1"/>
          </p:nvPr>
        </p:nvSpPr>
        <p:spPr/>
        <p:txBody>
          <a:bodyPr/>
          <a:p>
            <a:fld id="{9BC5B163-E0D0-4263-9CE3-5C1BA0E5320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I</a:t>
            </a:r>
            <a:endParaRPr b="0" lang="en-US" sz="36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TL skal tildele score til den feilende side må ha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urdere verst tenkelige score uten uregelmessigheten</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erst tenkelige score med uregelmessigheten (og uten motpartens senere dårlige meldinger og spill.</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s revoke eller motspill som er feil, men saklig begrunnet er ikke omstendigheter som reduserer den negative scoren som den feilende side får.</a:t>
            </a:r>
            <a:endParaRPr b="0" lang="en-US" sz="2000" spc="-1" strike="noStrike">
              <a:solidFill>
                <a:srgbClr val="99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64BC61D4-0CF3-40F0-B2B4-7C413F41398C}" type="slidenum">
              <a:t>14</a:t>
            </a:fld>
          </a:p>
        </p:txBody>
      </p:sp>
      <p:sp>
        <p:nvSpPr>
          <p:cNvPr id="6" name="PlaceHolder 5"/>
          <p:cNvSpPr>
            <a:spLocks noGrp="1"/>
          </p:cNvSpPr>
          <p:nvPr>
            <p:ph type="dt" idx="1"/>
          </p:nvPr>
        </p:nvSpPr>
        <p:spPr/>
        <p:txBody>
          <a:bodyPr/>
          <a:p>
            <a:fld id="{FC6A7105-3C40-47C5-AA29-6EF06837A22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a:t>
            </a:r>
            <a:endParaRPr b="0" lang="en-US" sz="36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ktet score </a:t>
            </a:r>
            <a:endParaRPr b="0" lang="en-US" sz="32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t fastsettes flere mulige scorer og TL vurderer prosentvis andel av hver.</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lle scorene føres inn i regnskapet og alle som sitter i samme retning som de som får en vektet score får sin score påvirket av vektinge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luttscoren beregnes ved å summere IMP eller mp for de forskjellige scorene</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0,3*14+0,2*6+0,5*-7</a:t>
            </a:r>
            <a:r>
              <a:rPr b="0" lang="en-US" sz="2000" spc="-1" strike="noStrike">
                <a:solidFill>
                  <a:srgbClr val="990000"/>
                </a:solidFill>
                <a:latin typeface="Wingdings"/>
                <a:ea typeface="Wingdings"/>
              </a:rPr>
              <a:t></a:t>
            </a:r>
            <a:r>
              <a:rPr b="0" lang="en-US" sz="2000" spc="-1" strike="noStrike">
                <a:solidFill>
                  <a:srgbClr val="990000"/>
                </a:solidFill>
                <a:latin typeface="Times New Roman"/>
              </a:rPr>
              <a:t> </a:t>
            </a:r>
            <a:r>
              <a:rPr b="1" i="1" lang="en-US" sz="2000" spc="-1" strike="noStrike" u="sng">
                <a:solidFill>
                  <a:srgbClr val="990000"/>
                </a:solidFill>
                <a:uFillTx/>
                <a:latin typeface="Times New Roman"/>
              </a:rPr>
              <a:t>1,9</a:t>
            </a:r>
            <a:r>
              <a:rPr b="0" lang="en-US" sz="2000" spc="-1" strike="noStrike">
                <a:solidFill>
                  <a:srgbClr val="990000"/>
                </a:solidFill>
                <a:latin typeface="Times New Roman"/>
              </a:rPr>
              <a:t>  som er i regnskapet</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6C98BA4D-1EE7-48EA-9A69-9D787E7BF0A1}" type="slidenum">
              <a:t>15</a:t>
            </a:fld>
          </a:p>
        </p:txBody>
      </p:sp>
      <p:sp>
        <p:nvSpPr>
          <p:cNvPr id="6" name="PlaceHolder 5"/>
          <p:cNvSpPr>
            <a:spLocks noGrp="1"/>
          </p:cNvSpPr>
          <p:nvPr>
            <p:ph type="dt" idx="1"/>
          </p:nvPr>
        </p:nvSpPr>
        <p:spPr/>
        <p:txBody>
          <a:bodyPr/>
          <a:p>
            <a:fld id="{F31C1404-77B6-4090-A233-2C3327E3B27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I</a:t>
            </a:r>
            <a:endParaRPr b="0" lang="en-US" sz="36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melding eller et spill som er dømt ulovlig etter §16 kan ikke være en del av en vektet score.</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ektet score skal begrunnes av TL og normalt vil ikke et appellutvalg trekke inn nye scorer eller endre TL sin vektlegging av scoren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6E6F3236-B7F7-4D43-A563-53586ABF2D1E}" type="slidenum">
              <a:t>16</a:t>
            </a:fld>
          </a:p>
        </p:txBody>
      </p:sp>
      <p:sp>
        <p:nvSpPr>
          <p:cNvPr id="6" name="PlaceHolder 5"/>
          <p:cNvSpPr>
            <a:spLocks noGrp="1"/>
          </p:cNvSpPr>
          <p:nvPr>
            <p:ph type="dt" idx="1"/>
          </p:nvPr>
        </p:nvSpPr>
        <p:spPr/>
        <p:txBody>
          <a:bodyPr/>
          <a:p>
            <a:fld id="{C1E9BFFC-DAB8-4F48-A4F9-8B78DC3E237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etten til å fastsette et justert resultat</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Turneringslederen kan fastsette et justert resultat (korrigert score eller fastsette poeng direkte), enten på eget initiativ eller på anmodning av en spiller, men bare når loven gir ham myndighet til det - eller:</a:t>
            </a:r>
            <a:endParaRPr b="0" lang="en-US" sz="2000" spc="-1" strike="noStrike">
              <a:solidFill>
                <a:srgbClr val="990000"/>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1. Når lovene ikke har fastsatt noen erstatning</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korrigert resultat når denne finner at lovene ikke har fastsatt noen erstatning til den ikke-feilende deltager for et gitt lovbrudd begått av en motstander.</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2. Når det er umulig å spille mappen på normal måte</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poeng direkte hvis det ikke er mulig å foreta noen korrigering som kan føre til normalt spill av mappen (se §88).</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3. Når det er sonet en ukorrekt straff</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justert resultat hvis det er sonet en ukorrekt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86F7263B-0A58-4D4C-AD8A-C81EA57C4644}" type="slidenum">
              <a:t>2</a:t>
            </a:fld>
          </a:p>
        </p:txBody>
      </p:sp>
      <p:sp>
        <p:nvSpPr>
          <p:cNvPr id="6" name="PlaceHolder 5"/>
          <p:cNvSpPr>
            <a:spLocks noGrp="1"/>
          </p:cNvSpPr>
          <p:nvPr>
            <p:ph type="dt" idx="1"/>
          </p:nvPr>
        </p:nvSpPr>
        <p:spPr/>
        <p:txBody>
          <a:bodyPr/>
          <a:p>
            <a:fld id="{84EF8F2C-7D2B-484A-BEE3-F5619B25D41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gen korrigering ved urimelig streng straff</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urneringslederen kan ikke fastsette et justert resultat med den begrunnelse at straffen som er fastsatt i lovene, enten er urimelig streng eller fordelaktig for den ene eller andre siden.</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20002E2E-CDA5-487F-BED9-16B028A44BB0}" type="slidenum">
              <a:t>3</a:t>
            </a:fld>
          </a:p>
        </p:txBody>
      </p:sp>
      <p:sp>
        <p:nvSpPr>
          <p:cNvPr id="6" name="PlaceHolder 5"/>
          <p:cNvSpPr>
            <a:spLocks noGrp="1"/>
          </p:cNvSpPr>
          <p:nvPr>
            <p:ph type="dt" idx="1"/>
          </p:nvPr>
        </p:nvSpPr>
        <p:spPr/>
        <p:txBody>
          <a:bodyPr/>
          <a:p>
            <a:fld id="{15CEE073-783B-4B54-8E5D-61070F2E685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astsettelse av justert resultat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1. Direkte fastsettelse av poe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Når det på grunn av en uregelmessighet ikke kan oppnås noen score, tildeler TL poeng i samsvar med ansvaret for uregelmessigheten: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minus (høyst 40% av det samlede antall poeng som skal tildeles i parturnering) til en deltager som har gjort en direkte feil;</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 </a:t>
            </a:r>
            <a:r>
              <a:rPr b="1" lang="nb-NO" sz="1600" spc="-1" strike="noStrike">
                <a:solidFill>
                  <a:srgbClr val="990000"/>
                </a:solidFill>
                <a:latin typeface="Times New Roman"/>
              </a:rPr>
              <a:t>middels (50% i parturnering) til en deltager som bare delvis har gjort feil; </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pluss (minst 60% i parturnering) til en deltager som overhodet ikke har gjort feil     </a:t>
            </a:r>
            <a:br>
              <a:rPr sz="1600"/>
            </a:br>
            <a:r>
              <a:rPr b="1" lang="nb-NO" sz="1600" spc="-1" strike="noStrike">
                <a:solidFill>
                  <a:srgbClr val="990000"/>
                </a:solidFill>
                <a:latin typeface="Times New Roman"/>
              </a:rPr>
              <a:t>(se §86 når det gjelder lagturnering og §88 når det gjelder parturnering). </a:t>
            </a:r>
            <a:endParaRPr b="0" lang="en-US" sz="16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Poengene som er tildelt de to sidene, behøver ikke å balansere hverandr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2AEDD9C3-6130-40EA-8C0D-BCB32DCA1DAC}" type="slidenum">
              <a:t>4</a:t>
            </a:fld>
          </a:p>
        </p:txBody>
      </p:sp>
      <p:sp>
        <p:nvSpPr>
          <p:cNvPr id="6" name="PlaceHolder 5"/>
          <p:cNvSpPr>
            <a:spLocks noGrp="1"/>
          </p:cNvSpPr>
          <p:nvPr>
            <p:ph type="dt" idx="1"/>
          </p:nvPr>
        </p:nvSpPr>
        <p:spPr/>
        <p:txBody>
          <a:bodyPr/>
          <a:p>
            <a:fld id="{52D3DDFB-CAD3-46CE-BDAF-4A5AD9476F2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Fastsettelse av justert resultat II</a:t>
            </a:r>
            <a:br>
              <a:rPr sz="4000"/>
            </a:br>
            <a:r>
              <a:rPr b="0" lang="en-US" sz="4000" spc="-1" strike="noStrike">
                <a:solidFill>
                  <a:srgbClr val="000066"/>
                </a:solidFill>
                <a:latin typeface="Times New Roman"/>
              </a:rPr>
              <a:t> Korrigering av score</a:t>
            </a:r>
            <a:endParaRPr b="0" lang="en-US" sz="40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2. Når TL fastsetter en korrigert score i stedet for den score som faktisk er oppnådd etter en uregelmessighet,</a:t>
            </a:r>
            <a:r>
              <a:rPr b="1" lang="en-US" sz="3200" spc="-1" strike="noStrike">
                <a:solidFill>
                  <a:srgbClr val="990000"/>
                </a:solidFill>
                <a:latin typeface="Times New Roman"/>
              </a:rPr>
              <a:t> </a:t>
            </a:r>
            <a:endParaRPr b="0" lang="en-US" sz="32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 og for den feilende side den mest ugunstige score som i det hele tatt ville være sannsynlig.</a:t>
            </a:r>
            <a:r>
              <a:rPr b="1" lang="en-US" sz="2000" spc="-1" strike="noStrike">
                <a:solidFill>
                  <a:srgbClr val="000066"/>
                </a:solidFill>
                <a:latin typeface="Times New Roman"/>
              </a:rPr>
              <a:t> </a:t>
            </a:r>
            <a:endParaRPr b="0" lang="en-US" sz="2000" spc="-1" strike="noStrike">
              <a:solidFill>
                <a:srgbClr val="000066"/>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coren som tildeles de to sidene, behøver ikke å balansere hverandre.</a:t>
            </a:r>
            <a:endParaRPr b="0" lang="en-US" sz="2400" spc="-1" strike="noStrike">
              <a:solidFill>
                <a:srgbClr val="990000"/>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3. Med mindre de forskjellige soneorganisasjonene i WBF be-stemmer noe annet, kan en appellkomité endre en korrigert score for å oppnå et mer rettferdig resultat.</a:t>
            </a:r>
            <a:endParaRPr b="0" lang="en-US" sz="24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I EBL og Norge har TL denne myndigheten)</a:t>
            </a:r>
            <a:endParaRPr b="0" lang="en-US" sz="2000" spc="-1" strike="noStrike">
              <a:solidFill>
                <a:srgbClr val="000066"/>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29E9AEBE-EBDF-4D1C-AF86-9DB54F360318}" type="slidenum">
              <a:t>5</a:t>
            </a:fld>
          </a:p>
        </p:txBody>
      </p:sp>
      <p:sp>
        <p:nvSpPr>
          <p:cNvPr id="6" name="PlaceHolder 5"/>
          <p:cNvSpPr>
            <a:spLocks noGrp="1"/>
          </p:cNvSpPr>
          <p:nvPr>
            <p:ph type="dt" idx="1"/>
          </p:nvPr>
        </p:nvSpPr>
        <p:spPr/>
        <p:txBody>
          <a:bodyPr/>
          <a:p>
            <a:fld id="{AE8A4629-061A-4706-ABE6-BF6498B6B7D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2 C 1 direkte fastsettelse</a:t>
            </a:r>
            <a:endParaRPr b="0" lang="en-US" sz="4400" spc="-1" strike="noStrike">
              <a:solidFill>
                <a:srgbClr val="000066"/>
              </a:solidFill>
              <a:latin typeface="Times New Roman"/>
            </a:endParaRPr>
          </a:p>
        </p:txBody>
      </p:sp>
      <p:sp>
        <p:nvSpPr>
          <p:cNvPr id="5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Fastsetter et antall Imp på spillet i lagkamp og en prosentsats i parturnering</a:t>
            </a:r>
            <a:endParaRPr b="0" lang="en-US" sz="2400" spc="-1" strike="noStrike">
              <a:solidFill>
                <a:srgbClr val="990000"/>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uskyldig spiller får minst gjennomsnitt + ): 60% eller 3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delvis skyldig spiller får ofte gjennomsnitt ): 50% eller 0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skyldig spiller får max gjennomsnitt- ): 40% eller –3 Imp</a:t>
            </a:r>
            <a:endParaRPr b="0" lang="en-US" sz="2000" spc="-1" strike="noStrike">
              <a:solidFill>
                <a:srgbClr val="000066"/>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ørst av</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60%</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inst av</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40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C9B743C4-6F21-43AE-9B27-9B33FC278351}" type="slidenum">
              <a:t>6</a:t>
            </a:fld>
          </a:p>
        </p:txBody>
      </p:sp>
      <p:sp>
        <p:nvSpPr>
          <p:cNvPr id="7" name="PlaceHolder 6"/>
          <p:cNvSpPr>
            <a:spLocks noGrp="1"/>
          </p:cNvSpPr>
          <p:nvPr>
            <p:ph type="dt" idx="1"/>
          </p:nvPr>
        </p:nvSpPr>
        <p:spPr/>
        <p:txBody>
          <a:bodyPr/>
          <a:p>
            <a:fld id="{339578F5-ACC1-4826-9EDA-699490D1E5B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akstheftet for direkte justert score</a:t>
            </a:r>
            <a:endParaRPr b="0" lang="en-US" sz="3600" spc="-1" strike="noStrike">
              <a:solidFill>
                <a:srgbClr val="000066"/>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4*antall sammenligninger 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 across the field</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8*antall sammenligninger</a:t>
            </a:r>
            <a:br>
              <a:rPr sz="1800"/>
            </a:br>
            <a:r>
              <a:rPr b="1" lang="nb-NO" sz="1800" spc="-1" strike="noStrike">
                <a:solidFill>
                  <a:srgbClr val="000066"/>
                </a:solidFill>
                <a:latin typeface="Times New Roman"/>
                <a:ea typeface="Times New Roman"/>
              </a:rPr>
              <a:t>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Board a match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1,2 pts (med 2 poeng for vunnet spill) </a:t>
            </a:r>
            <a:br>
              <a:rPr sz="1800"/>
            </a:br>
            <a:r>
              <a:rPr b="1" lang="nb-NO" sz="1800" spc="-1" strike="noStrike">
                <a:solidFill>
                  <a:srgbClr val="000066"/>
                </a:solidFill>
                <a:latin typeface="Times New Roman"/>
              </a:rPr>
              <a:t>minste enhet 0,2 p</a:t>
            </a:r>
            <a:endParaRPr b="0" lang="en-US" sz="1800" spc="-1" strike="noStrike">
              <a:solidFill>
                <a:srgbClr val="000066"/>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Butl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IMP</a:t>
            </a:r>
            <a:br>
              <a:rPr sz="1800"/>
            </a:br>
            <a:r>
              <a:rPr b="1" lang="en-US" sz="1800" spc="-1" strike="noStrike">
                <a:solidFill>
                  <a:srgbClr val="000066"/>
                </a:solidFill>
                <a:latin typeface="Times New Roman"/>
              </a:rPr>
              <a:t>minste enhet 0,5 IMP </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V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ax VP / 7,5*antall spill</a:t>
            </a:r>
            <a:br>
              <a:rPr sz="1800"/>
            </a:br>
            <a:r>
              <a:rPr b="1" lang="en-US" sz="1800" spc="-1" strike="noStrike">
                <a:solidFill>
                  <a:srgbClr val="000066"/>
                </a:solidFill>
                <a:latin typeface="Times New Roman"/>
              </a:rPr>
              <a:t>minste enhet 0.5 V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or alle disse beregningene er det den motsatte scoren</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corene i disse turneringsformene påvirkes ikke av sesjonsresultatet.</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C678F579-FF3E-4AB3-9DD1-C24E028D5856}" type="slidenum">
              <a:t>7</a:t>
            </a:fld>
          </a:p>
        </p:txBody>
      </p:sp>
      <p:sp>
        <p:nvSpPr>
          <p:cNvPr id="7" name="PlaceHolder 6"/>
          <p:cNvSpPr>
            <a:spLocks noGrp="1"/>
          </p:cNvSpPr>
          <p:nvPr>
            <p:ph type="dt" idx="1"/>
          </p:nvPr>
        </p:nvSpPr>
        <p:spPr/>
        <p:txBody>
          <a:bodyPr/>
          <a:p>
            <a:fld id="{BA311202-9ADC-413F-AF3C-F4E319A4FE8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irekte tildeling av score 12C1 I</a:t>
            </a:r>
            <a:endParaRPr b="0" lang="en-US" sz="36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Når et spill ikke kan spilles eller scores på vanlig måt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otstanderne møter ikk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r mange kort er fremvist og lignen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rettmessig informasjon fra andre kilder enn makke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nekter spillerne å spille spillet</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har dømt feil</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B8C1D80A-4F21-4745-9A68-F5D39E9C8DE1}" type="slidenum">
              <a:t>8</a:t>
            </a:fld>
          </a:p>
        </p:txBody>
      </p:sp>
      <p:sp>
        <p:nvSpPr>
          <p:cNvPr id="6" name="PlaceHolder 5"/>
          <p:cNvSpPr>
            <a:spLocks noGrp="1"/>
          </p:cNvSpPr>
          <p:nvPr>
            <p:ph type="dt" idx="1"/>
          </p:nvPr>
        </p:nvSpPr>
        <p:spPr/>
        <p:txBody>
          <a:bodyPr/>
          <a:p>
            <a:fld id="{F16CCB50-6661-41F9-BB0F-21D04CDC551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a:t>
            </a:r>
            <a:endParaRPr b="0" lang="en-US" sz="3600" spc="-1" strike="noStrike">
              <a:solidFill>
                <a:srgbClr val="000066"/>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Motstanderne møter ikk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Lagturnering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VP straff inntil 30 minutter for sent.</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pill som dere ikke rekker GJ +</a:t>
            </a:r>
            <a:br>
              <a:rPr sz="1400"/>
            </a:br>
            <a:r>
              <a:rPr b="1" lang="nb-NO" sz="1400" spc="-1" strike="noStrike">
                <a:solidFill>
                  <a:srgbClr val="990000"/>
                </a:solidFill>
                <a:latin typeface="Times New Roman"/>
              </a:rPr>
              <a:t> </a:t>
            </a:r>
            <a:endParaRPr b="0" lang="en-US" sz="14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Parturnering</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standerne får GJ – og en prosedyrestraf i tillegg</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Ikke feilende  GJ +</a:t>
            </a:r>
            <a:endParaRPr b="0" lang="en-US" sz="1400" spc="-1" strike="noStrike">
              <a:solidFill>
                <a:srgbClr val="99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For mange kort er fremvist og lignend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Dersom en spillere har sett noen av makkers eller en motstanders kort ,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sett på feil hånd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flere spillere har gjort feil i meldingsforløp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att opp kortene feil i lagka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ildel score direkte når omgiv ikke er mulig </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21AF1EFB-BE3F-4D56-BB79-6B377D5E0324}" type="slidenum">
              <a:t>9</a:t>
            </a:fld>
          </a:p>
        </p:txBody>
      </p:sp>
      <p:sp>
        <p:nvSpPr>
          <p:cNvPr id="7" name="PlaceHolder 6"/>
          <p:cNvSpPr>
            <a:spLocks noGrp="1"/>
          </p:cNvSpPr>
          <p:nvPr>
            <p:ph type="dt" idx="1"/>
          </p:nvPr>
        </p:nvSpPr>
        <p:spPr/>
        <p:txBody>
          <a:bodyPr/>
          <a:p>
            <a:fld id="{6A309727-77A9-413F-8399-F3F89012795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5:09:39Z</dcterms:created>
  <dc:creator>Per Nordland</dc:creator>
  <dc:description/>
  <dc:language>en-US</dc:language>
  <cp:lastModifiedBy>Per Nordland</cp:lastModifiedBy>
  <dcterms:modified xsi:type="dcterms:W3CDTF">2002-04-16T10:07:41Z</dcterms:modified>
  <cp:revision>5</cp:revision>
  <dc:subject/>
  <dc:title>§12. TL sin myndighet til å anvende skjønn</dc:title>
</cp:coreProperties>
</file>